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0D5-6D34-4B60-8A97-156DA8B3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95120" y="454572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3C2-F248-488B-AD56-5A70EE91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7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6C0-92F6-4565-B070-CBB9E10C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204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6896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9512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204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6896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182-5360-4EB6-B45B-B27921CB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AFE1-9E58-4E71-AE8C-38C08937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CE88-9553-4B04-86FD-EC66146E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648B-FF60-426A-A6BD-A31851C4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0E58-5759-4276-8C81-5996D6DD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02FD-7B2E-4B98-AA37-076FD0C4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57600" y="2514600"/>
            <a:ext cx="54100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9250-94DD-4EF2-B22A-8563650D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4DA6-3204-43B9-9469-98D2077A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CF0-AF40-4A07-93D3-888D74B5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577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DFFA-14B3-4FC1-830C-84CB3C81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6DE6-882D-49B8-9EC8-B44DC133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95120" y="454572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7377-33B0-4572-94BB-161603B5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577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9ED6-2F63-4902-922C-9FC5F956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204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6896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9512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204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6896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A65C-C0F8-4466-9834-1022DC25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00A-FC8F-4045-8751-5B1D50EF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AC8-F9CE-4077-B447-7B5AB90B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FE2-C484-4D33-ADAB-E1F53BA2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7600" y="2514600"/>
            <a:ext cx="54100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9B1-5CD1-4F73-882E-19CAF2E1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56F-DB5B-416C-8E81-920B7E66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7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8CF-B633-403D-BE77-C0C8676D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C2C-B842-408E-9D85-FAB0DBC0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5C4F-48FD-4992-BCC2-B84C19FCDE38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798F-F602-4355-B591-82F293D2E98F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cf48c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cf48c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01:49:37Z</dcterms:created>
  <dc:creator>Bonnie Ritchey</dc:creator>
  <dc:description/>
  <dc:language>en-US</dc:language>
  <cp:lastModifiedBy>Bonnie Ritchey</cp:lastModifiedBy>
  <dcterms:modified xsi:type="dcterms:W3CDTF">2004-06-14T01:50:17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21033</vt:lpwstr>
  </property>
</Properties>
</file>